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NZ" sz="1400" spc="-1" strike="noStrike">
                <a:solidFill>
                  <a:srgbClr val="ffffff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NZ" sz="1400" spc="-1" strike="noStrike">
                <a:solidFill>
                  <a:srgbClr val="ffffff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NZ" sz="1400" spc="-1" strike="noStrike">
                <a:solidFill>
                  <a:srgbClr val="ffffff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NZ" sz="1400" spc="-1" strike="noStrike">
                <a:solidFill>
                  <a:srgbClr val="ffffff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NZ" sz="1400" spc="-1" strike="noStrike">
                <a:solidFill>
                  <a:srgbClr val="ffffff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NZ" sz="1400" spc="-1" strike="noStrike">
                <a:solidFill>
                  <a:srgbClr val="ffffff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09328A-51DB-454F-BC65-1767C8F3C44A}" type="slidenum">
              <a:rPr b="0" lang="en-NZ" sz="1400" spc="-1" strike="noStrike">
                <a:solidFill>
                  <a:srgbClr val="ffffff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3480" cy="40068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  <a:ea typeface="AR PL UMing HK"/>
              </a:rPr>
              <a:t>Tour postpo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3480" cy="40068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  <a:ea typeface="AR PL UMing HK"/>
              </a:rPr>
              <a:t>Christchurch hosted the Commonwealth Ga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  <a:ea typeface="AR PL UMing HK"/>
              </a:rPr>
              <a:t>Black South African nations threatened to boycott the games if the tour in 1973 went ahea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3480" cy="40068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  <a:ea typeface="AR PL UMing HK"/>
              </a:rPr>
              <a:t>Robert Muldoon said the National government would welcome a tour of the Springboks to New Zeal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3480" cy="40068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  <a:ea typeface="AR PL UMing HK"/>
              </a:rPr>
              <a:t>All Blacks tour to South Afr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  <a:ea typeface="AR PL UMing HK"/>
              </a:rPr>
              <a:t>Black African nations boycott the Montreal Olymp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  <a:ea typeface="AR PL UMing HK"/>
              </a:rPr>
              <a:t>Soweto ri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3480" cy="40068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  <a:ea typeface="AR PL UMing HK"/>
              </a:rPr>
              <a:t>Commonwealth heads of state mee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  <a:ea typeface="AR PL UMing HK"/>
              </a:rPr>
              <a:t>Gleneagles Agre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3480" cy="40068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  <a:ea typeface="AR PL UMing HK"/>
              </a:rPr>
              <a:t>New Zealand Rugby Football Union invite Springboks to tour New Zealand in response to Muldoon's attitude towards Keep Politics Out Of S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3480" cy="40068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  <a:ea typeface="AR PL UMing HK"/>
              </a:rPr>
              <a:t>John Minto national organiser for Halt Against Racist Tou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  <a:ea typeface="AR PL UMing HK"/>
              </a:rPr>
              <a:t>19 July Springboks arrived for the tou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3480" cy="40068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  <a:ea typeface="AR PL UMing HK"/>
              </a:rPr>
              <a:t>Gisbor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3480" cy="40068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  <a:ea typeface="AR PL UMing HK"/>
              </a:rPr>
              <a:t>Hamilt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3480" cy="40068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  <a:ea typeface="AR PL UMing HK"/>
              </a:rPr>
              <a:t>Molesworth Street, Wellington protest viol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  <a:ea typeface="AR PL UMing HK"/>
              </a:rPr>
              <a:t>First official series – South Africa played in New Zeal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3480" cy="40068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  <a:ea typeface="AR PL UMing HK"/>
              </a:rPr>
              <a:t>First test in Christchur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3480" cy="40068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  <a:ea typeface="AR PL UMing HK"/>
              </a:rPr>
              <a:t>Second test in Wellingt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3480" cy="40068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  <a:ea typeface="AR PL UMing HK"/>
              </a:rPr>
              <a:t>Third test in Auckl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  <a:ea typeface="AR PL UMing HK"/>
              </a:rPr>
              <a:t>Teams selected on the bias of race, due to Apartheid, up until this tim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  <a:ea typeface="AR PL UMing HK"/>
              </a:rPr>
              <a:t>Rugby went profess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  <a:ea typeface="AR PL UMing HK"/>
              </a:rPr>
              <a:t>Apartheid becomes a legal system, under National Government led by Daniel Mala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3480" cy="40068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  <a:ea typeface="AR PL UMing HK"/>
              </a:rPr>
              <a:t>New Zealand considered peaceful, prosperous and integr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  <a:ea typeface="AR PL UMing HK"/>
              </a:rPr>
              <a:t>“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  <a:ea typeface="AR PL UMing HK"/>
              </a:rPr>
              <a:t>No Maori, no tour” - petition signed against sending a race-based tea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  <a:ea typeface="AR PL UMing HK"/>
              </a:rPr>
              <a:t>United Nations called for a sporting boycott against South Afr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  <a:ea typeface="AR PL UMing HK"/>
              </a:rPr>
              <a:t>Halt Against Racist Tours was founded by University of Auckland stud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  <a:ea typeface="AR PL UMing HK"/>
              </a:rPr>
              <a:t>New Zealand Rugby Football Union did not select Maori players to tour South Africa up until this tim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  <a:ea typeface="AR PL UMing HK"/>
              </a:rPr>
              <a:t>New Zealand tour to South Africa – multiracial team because Maori were considered as 'honourary whites'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  <a:ea typeface="AR PL UMing HK"/>
              </a:rPr>
              <a:t>Norman Kirk, Labour opposition leader, promised not to interfere with the 1973 Tour in the lead up to the elec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2690A-CBCF-46F9-BD78-381BCDD83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7E366-1786-4260-8A2B-C7495CBA4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4015C-903D-4121-B4F4-181598D64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7F8AB-0BBC-44CA-944B-B62F5710D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0FF86-3B0B-4C0F-A74E-A025ED23E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392B9-38E5-4BD8-9243-C330C92DD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9A9A7-C0E9-43C3-90DB-F8380A3AB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4E9F5-5D99-41D6-9F30-A01DB8EFF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83507-AC3B-41F7-8A36-141D2FBAF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6C91A-36A9-4EAB-B119-7C8401ABA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70E6B-12D7-4AFB-9C49-12BE9B787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632AC-C70D-4B94-A6DD-B9C94B94E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EDAF5-7A7F-47B4-9434-6496E2729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F3E21-254E-4610-8ED9-A1880A6EF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4BA10-8E7E-456D-96F1-A6AE1EE5A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2E5B5-0CD9-4871-9C66-CFC5C3ECD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574C5-E9E7-4779-878E-DFACF378B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DF125-EB04-48A7-ADD3-640390FBD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92289-0C61-42CA-95D3-36452B9A4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A972A-67B6-4D98-AA84-B26BF285D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2834D-05B7-46E8-AA51-B81446B64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66F46-FC6E-4409-91A7-2C6BAA581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DED1B-A257-45C3-8C4B-2C5367556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8AA08-F926-43D3-BEAA-DF23A0AC3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300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0000" cy="5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NZ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7800" cy="5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NZ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0000" cy="5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NZ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E0A436-3FEC-4DCF-8075-7FD304C41B14}" type="slidenum"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7600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NZ" sz="1400" spc="-1" strike="noStrike">
                <a:solidFill>
                  <a:srgbClr val="ffffff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NZ" sz="1400" spc="-1" strike="noStrike">
                <a:solidFill>
                  <a:srgbClr val="ffffff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NZ" sz="1400" spc="-1" strike="noStrike">
                <a:solidFill>
                  <a:srgbClr val="ffffff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NZ" sz="1400" spc="-1" strike="noStrike">
                <a:solidFill>
                  <a:srgbClr val="ffffff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NZ" sz="1400" spc="-1" strike="noStrike">
                <a:solidFill>
                  <a:srgbClr val="ffffff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BA3FFA-973D-4908-A591-9A4554D2AF0D}" type="slidenum">
              <a:rPr b="0" lang="en-NZ" sz="1400" spc="-1" strike="noStrike">
                <a:solidFill>
                  <a:srgbClr val="ffffff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503280" y="301680"/>
            <a:ext cx="9070920" cy="585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5292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NZ" sz="6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1981 Springbok Tour Protest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NZ" sz="5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A timeline of event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NZ" sz="6000" spc="-1" strike="noStrike">
                <a:solidFill>
                  <a:srgbClr val="000000"/>
                </a:solidFill>
                <a:latin typeface="Times New Roman"/>
              </a:rPr>
              <a:t>1973</a:t>
            </a:r>
            <a:endParaRPr b="1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NZ" sz="3600" spc="-1" strike="noStrike">
                <a:solidFill>
                  <a:srgbClr val="ffffff"/>
                </a:solidFill>
                <a:latin typeface="Arial"/>
                <a:ea typeface="AR PL UMing HK"/>
              </a:rPr>
              <a:t>Tour postpone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NZ" sz="6000" spc="-1" strike="noStrike">
                <a:solidFill>
                  <a:srgbClr val="000000"/>
                </a:solidFill>
                <a:latin typeface="Times New Roman"/>
              </a:rPr>
              <a:t>1974</a:t>
            </a:r>
            <a:endParaRPr b="1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NZ" sz="3600" spc="-1" strike="noStrike">
                <a:solidFill>
                  <a:srgbClr val="ffffff"/>
                </a:solidFill>
                <a:latin typeface="Arial"/>
                <a:ea typeface="AR PL UMing HK"/>
              </a:rPr>
              <a:t>Christchurch hosted the Commonwealth Gam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NZ" sz="3600" spc="-1" strike="noStrike">
                <a:solidFill>
                  <a:srgbClr val="ffffff"/>
                </a:solidFill>
                <a:latin typeface="Arial"/>
                <a:ea typeface="AR PL UMing HK"/>
              </a:rPr>
              <a:t>Black South African nations threatened to boycott the games if the tour in 1973 went ahead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NZ" sz="6000" spc="-1" strike="noStrike">
                <a:solidFill>
                  <a:srgbClr val="000000"/>
                </a:solidFill>
                <a:latin typeface="Times New Roman"/>
              </a:rPr>
              <a:t>1975</a:t>
            </a:r>
            <a:endParaRPr b="1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NZ" sz="3600" spc="-1" strike="noStrike">
                <a:solidFill>
                  <a:srgbClr val="ffffff"/>
                </a:solidFill>
                <a:latin typeface="Arial"/>
                <a:ea typeface="AR PL UMing HK"/>
              </a:rPr>
              <a:t>Robert Muldoon said the National government would welcome a tour of the Springboks to New Zealan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NZ" sz="6000" spc="-1" strike="noStrike">
                <a:solidFill>
                  <a:srgbClr val="000000"/>
                </a:solidFill>
                <a:latin typeface="Times New Roman"/>
              </a:rPr>
              <a:t>1976</a:t>
            </a:r>
            <a:endParaRPr b="1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NZ" sz="3600" spc="-1" strike="noStrike">
                <a:solidFill>
                  <a:srgbClr val="ffffff"/>
                </a:solidFill>
                <a:latin typeface="Arial"/>
                <a:ea typeface="AR PL UMing HK"/>
              </a:rPr>
              <a:t>All Blacks tour to South Afric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NZ" sz="3600" spc="-1" strike="noStrike">
                <a:solidFill>
                  <a:srgbClr val="ffffff"/>
                </a:solidFill>
                <a:latin typeface="Arial"/>
                <a:ea typeface="AR PL UMing HK"/>
              </a:rPr>
              <a:t>Black African nations boycott the Montreal Olympic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NZ" sz="3600" spc="-1" strike="noStrike">
                <a:solidFill>
                  <a:srgbClr val="ffffff"/>
                </a:solidFill>
                <a:latin typeface="Arial"/>
                <a:ea typeface="AR PL UMing HK"/>
              </a:rPr>
              <a:t>Soweto rio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NZ" sz="6000" spc="-1" strike="noStrike">
                <a:solidFill>
                  <a:srgbClr val="000000"/>
                </a:solidFill>
                <a:latin typeface="Times New Roman"/>
              </a:rPr>
              <a:t>1977</a:t>
            </a:r>
            <a:endParaRPr b="1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NZ" sz="3600" spc="-1" strike="noStrike">
                <a:solidFill>
                  <a:srgbClr val="ffffff"/>
                </a:solidFill>
                <a:latin typeface="Arial"/>
                <a:ea typeface="AR PL UMing HK"/>
              </a:rPr>
              <a:t>Commonwealth heads of state meetin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NZ" sz="3600" spc="-1" strike="noStrike">
                <a:solidFill>
                  <a:srgbClr val="ffffff"/>
                </a:solidFill>
                <a:latin typeface="Arial"/>
                <a:ea typeface="AR PL UMing HK"/>
              </a:rPr>
              <a:t>Gleneagles Agreemen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NZ" sz="6000" spc="-1" strike="noStrike">
                <a:solidFill>
                  <a:srgbClr val="000000"/>
                </a:solidFill>
                <a:latin typeface="Times New Roman"/>
              </a:rPr>
              <a:t>1980</a:t>
            </a:r>
            <a:endParaRPr b="1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NZ" sz="3600" spc="-1" strike="noStrike">
                <a:solidFill>
                  <a:srgbClr val="ffffff"/>
                </a:solidFill>
                <a:latin typeface="Arial"/>
                <a:ea typeface="AR PL UMing HK"/>
              </a:rPr>
              <a:t>New Zealand Rugby Football Union invite Springboks to tour New Zealand in response to Muldoon's attitude towards Keep Politics Out Of Spor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NZ" sz="6000" spc="-1" strike="noStrike">
                <a:solidFill>
                  <a:srgbClr val="000000"/>
                </a:solidFill>
                <a:latin typeface="Times New Roman"/>
              </a:rPr>
              <a:t>1981</a:t>
            </a:r>
            <a:endParaRPr b="1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NZ" sz="3600" spc="-1" strike="noStrike">
                <a:solidFill>
                  <a:srgbClr val="ffffff"/>
                </a:solidFill>
                <a:latin typeface="Arial"/>
                <a:ea typeface="AR PL UMing HK"/>
              </a:rPr>
              <a:t>John Minto national organiser for Halt Against Racist Tour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NZ" sz="3600" spc="-1" strike="noStrike">
                <a:solidFill>
                  <a:srgbClr val="ffffff"/>
                </a:solidFill>
                <a:latin typeface="Arial"/>
                <a:ea typeface="AR PL UMing HK"/>
              </a:rPr>
              <a:t>19 July Springboks arrived for the tou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NZ" sz="6000" spc="-1" strike="noStrike">
                <a:solidFill>
                  <a:srgbClr val="000000"/>
                </a:solidFill>
                <a:latin typeface="Times New Roman"/>
              </a:rPr>
              <a:t>22 July 1981</a:t>
            </a:r>
            <a:endParaRPr b="1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NZ" sz="3600" spc="-1" strike="noStrike">
                <a:solidFill>
                  <a:srgbClr val="ffffff"/>
                </a:solidFill>
                <a:latin typeface="Arial"/>
                <a:ea typeface="AR PL UMing HK"/>
              </a:rPr>
              <a:t>Gisborn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NZ" sz="6000" spc="-1" strike="noStrike">
                <a:solidFill>
                  <a:srgbClr val="000000"/>
                </a:solidFill>
                <a:latin typeface="Times New Roman"/>
              </a:rPr>
              <a:t>25 July 1981</a:t>
            </a:r>
            <a:endParaRPr b="1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NZ" sz="3600" spc="-1" strike="noStrike">
                <a:solidFill>
                  <a:srgbClr val="ffffff"/>
                </a:solidFill>
                <a:latin typeface="Arial"/>
                <a:ea typeface="AR PL UMing HK"/>
              </a:rPr>
              <a:t>Hamilt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NZ" sz="6000" spc="-1" strike="noStrike">
                <a:solidFill>
                  <a:srgbClr val="000000"/>
                </a:solidFill>
                <a:latin typeface="Times New Roman"/>
              </a:rPr>
              <a:t>29 July 1981</a:t>
            </a:r>
            <a:endParaRPr b="1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NZ" sz="3600" spc="-1" strike="noStrike">
                <a:solidFill>
                  <a:srgbClr val="ffffff"/>
                </a:solidFill>
                <a:latin typeface="Arial"/>
                <a:ea typeface="AR PL UMing HK"/>
              </a:rPr>
              <a:t>Molesworth Street, Wellington protest violenc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50328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NZ" sz="6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192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0328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16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NZ" sz="3600" spc="-1" strike="noStrike">
                <a:solidFill>
                  <a:srgbClr val="ffffff"/>
                </a:solidFill>
                <a:latin typeface="Arial"/>
                <a:ea typeface="AR PL UMing HK"/>
              </a:rPr>
              <a:t>First official series – South Africa played in New Zeal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NZ" sz="6000" spc="-1" strike="noStrike">
                <a:solidFill>
                  <a:srgbClr val="000000"/>
                </a:solidFill>
                <a:latin typeface="Times New Roman"/>
              </a:rPr>
              <a:t>15 August 1981</a:t>
            </a:r>
            <a:endParaRPr b="1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NZ" sz="3600" spc="-1" strike="noStrike">
                <a:solidFill>
                  <a:srgbClr val="ffffff"/>
                </a:solidFill>
                <a:latin typeface="Arial"/>
                <a:ea typeface="AR PL UMing HK"/>
              </a:rPr>
              <a:t>First test in Christchurch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NZ" sz="6000" spc="-1" strike="noStrike">
                <a:solidFill>
                  <a:srgbClr val="000000"/>
                </a:solidFill>
                <a:latin typeface="Times New Roman"/>
              </a:rPr>
              <a:t>29 August 1981</a:t>
            </a:r>
            <a:endParaRPr b="1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NZ" sz="3600" spc="-1" strike="noStrike">
                <a:solidFill>
                  <a:srgbClr val="ffffff"/>
                </a:solidFill>
                <a:latin typeface="Arial"/>
                <a:ea typeface="AR PL UMing HK"/>
              </a:rPr>
              <a:t>Second test in Wellingt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NZ" sz="6000" spc="-1" strike="noStrike">
                <a:solidFill>
                  <a:srgbClr val="000000"/>
                </a:solidFill>
                <a:latin typeface="Times New Roman"/>
              </a:rPr>
              <a:t>12 September 1981</a:t>
            </a:r>
            <a:endParaRPr b="1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NZ" sz="3600" spc="-1" strike="noStrike">
                <a:solidFill>
                  <a:srgbClr val="ffffff"/>
                </a:solidFill>
                <a:latin typeface="Arial"/>
                <a:ea typeface="AR PL UMing HK"/>
              </a:rPr>
              <a:t>Third test in Aucklan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NZ" sz="6000" spc="-1" strike="noStrike">
                <a:solidFill>
                  <a:srgbClr val="000000"/>
                </a:solidFill>
                <a:latin typeface="Times New Roman"/>
              </a:rPr>
              <a:t>1992</a:t>
            </a:r>
            <a:endParaRPr b="1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NZ" sz="3600" spc="-1" strike="noStrike">
                <a:solidFill>
                  <a:srgbClr val="ffffff"/>
                </a:solidFill>
                <a:latin typeface="Arial"/>
                <a:ea typeface="AR PL UMing HK"/>
              </a:rPr>
              <a:t>Teams selected on the bias of race, due to Apartheid, up until this time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NZ" sz="60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1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NZ" sz="3600" spc="-1" strike="noStrike">
                <a:solidFill>
                  <a:srgbClr val="ffffff"/>
                </a:solidFill>
                <a:latin typeface="Arial"/>
                <a:ea typeface="AR PL UMing HK"/>
              </a:rPr>
              <a:t>Rugby went professiona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NZ" sz="6000" spc="-1" strike="noStrike">
                <a:solidFill>
                  <a:srgbClr val="000000"/>
                </a:solidFill>
                <a:latin typeface="Times New Roman"/>
              </a:rPr>
              <a:t>1948</a:t>
            </a:r>
            <a:endParaRPr b="1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NZ" sz="3600" spc="-1" strike="noStrike">
                <a:solidFill>
                  <a:srgbClr val="ffffff"/>
                </a:solidFill>
                <a:latin typeface="Arial"/>
                <a:ea typeface="AR PL UMing HK"/>
              </a:rPr>
              <a:t>Apartheid becomes a legal system, under National Government led by Daniel Malan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NZ" sz="6000" spc="-1" strike="noStrike">
                <a:solidFill>
                  <a:srgbClr val="000000"/>
                </a:solidFill>
                <a:latin typeface="Times New Roman"/>
              </a:rPr>
              <a:t>1950s</a:t>
            </a:r>
            <a:endParaRPr b="1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NZ" sz="3600" spc="-1" strike="noStrike">
                <a:solidFill>
                  <a:srgbClr val="ffffff"/>
                </a:solidFill>
                <a:latin typeface="Arial"/>
                <a:ea typeface="AR PL UMing HK"/>
              </a:rPr>
              <a:t>New Zealand considered peaceful, prosperous and integrate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NZ" sz="6000" spc="-1" strike="noStrike">
                <a:solidFill>
                  <a:srgbClr val="000000"/>
                </a:solidFill>
                <a:latin typeface="Times New Roman"/>
              </a:rPr>
              <a:t>1960</a:t>
            </a:r>
            <a:endParaRPr b="1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NZ" sz="3600" spc="-1" strike="noStrike">
                <a:solidFill>
                  <a:srgbClr val="ffffff"/>
                </a:solidFill>
                <a:latin typeface="Arial"/>
                <a:ea typeface="AR PL UMing HK"/>
              </a:rPr>
              <a:t>“</a:t>
            </a:r>
            <a:r>
              <a:rPr b="0" lang="en-NZ" sz="3600" spc="-1" strike="noStrike">
                <a:solidFill>
                  <a:srgbClr val="ffffff"/>
                </a:solidFill>
                <a:latin typeface="Arial"/>
                <a:ea typeface="AR PL UMing HK"/>
              </a:rPr>
              <a:t>No Maori, no tour” - petition signed against sending a race-based team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NZ" sz="6000" spc="-1" strike="noStrike">
                <a:solidFill>
                  <a:srgbClr val="000000"/>
                </a:solidFill>
                <a:latin typeface="Times New Roman"/>
              </a:rPr>
              <a:t>1968</a:t>
            </a:r>
            <a:endParaRPr b="1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NZ" sz="3600" spc="-1" strike="noStrike">
                <a:solidFill>
                  <a:srgbClr val="ffffff"/>
                </a:solidFill>
                <a:latin typeface="Arial"/>
                <a:ea typeface="AR PL UMing HK"/>
              </a:rPr>
              <a:t>United Nations called for a sporting boycott against South Afric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NZ" sz="6000" spc="-1" strike="noStrike">
                <a:solidFill>
                  <a:srgbClr val="000000"/>
                </a:solidFill>
                <a:latin typeface="Times New Roman"/>
              </a:rPr>
              <a:t>1969</a:t>
            </a:r>
            <a:endParaRPr b="1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NZ" sz="3600" spc="-1" strike="noStrike">
                <a:solidFill>
                  <a:srgbClr val="ffffff"/>
                </a:solidFill>
                <a:latin typeface="Arial"/>
                <a:ea typeface="AR PL UMing HK"/>
              </a:rPr>
              <a:t>Halt Against Racist Tours was founded by University of Auckland stud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NZ" sz="4400" spc="-1" strike="noStrike">
                <a:solidFill>
                  <a:srgbClr val="000000"/>
                </a:solidFill>
                <a:latin typeface="Times New Roman"/>
              </a:rPr>
              <a:t>1970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NZ" sz="3600" spc="-1" strike="noStrike">
                <a:solidFill>
                  <a:srgbClr val="ffffff"/>
                </a:solidFill>
                <a:latin typeface="Arial"/>
                <a:ea typeface="AR PL UMing HK"/>
              </a:rPr>
              <a:t>New Zealand Rugby Football Union did not select Maori players to tour South Africa up until this time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NZ" sz="3600" spc="-1" strike="noStrike">
                <a:solidFill>
                  <a:srgbClr val="ffffff"/>
                </a:solidFill>
                <a:latin typeface="Arial"/>
                <a:ea typeface="AR PL UMing HK"/>
              </a:rPr>
              <a:t>New Zealand tour to South Africa – multiracial team because Maori were considered as 'honourary whites'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NZ" sz="6000" spc="-1" strike="noStrike">
                <a:solidFill>
                  <a:srgbClr val="000000"/>
                </a:solidFill>
                <a:latin typeface="Times New Roman"/>
              </a:rPr>
              <a:t>1972</a:t>
            </a:r>
            <a:endParaRPr b="1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NZ" sz="3600" spc="-1" strike="noStrike">
                <a:solidFill>
                  <a:srgbClr val="ffffff"/>
                </a:solidFill>
                <a:latin typeface="Arial"/>
                <a:ea typeface="AR PL UMing HK"/>
              </a:rPr>
              <a:t>Norman Kirk, Labour opposition leader, promised not to interfere with the 1973 Tour in the lead up to the election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22T04:32:19Z</dcterms:created>
  <dc:creator>amiles </dc:creator>
  <dc:description/>
  <dc:language>en-US</dc:language>
  <cp:lastModifiedBy/>
  <cp:lastPrinted>2012-07-22T20:00:46Z</cp:lastPrinted>
  <cp:revision>1</cp:revision>
  <dc:subject/>
  <dc:title/>
</cp:coreProperties>
</file>